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B67-B813-4584-A947-43EA538771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A833-0EA6-4D2E-9E62-3A35696EE02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03D-C0B9-4C1F-BD1E-3C0FA7DB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5D4-445E-49AC-A2F2-3DE0F997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566-679C-48E4-8B67-99442521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E931-1765-4120-8B75-1C478F22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02C-A2FD-4A84-9C8F-69A21BE4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0CA-3FF1-40FB-BC28-19734F7E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F00-ACF2-402E-956E-77D6816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603-A0C0-47F2-96D4-AC531F4C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F7C-4ED7-4D07-BBC3-902910FB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A25-358A-4219-8B7B-F4EE411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A79-08B1-4C32-A127-6BB29C8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12C-974F-4EE2-B231-7E9036F5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4D97-93A1-4EE3-9524-98874E187B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组合 20" descr=""/>
          <p:cNvPicPr/>
          <p:nvPr/>
        </p:nvPicPr>
        <p:blipFill>
          <a:blip r:embed="rId1"/>
          <a:stretch/>
        </p:blipFill>
        <p:spPr>
          <a:xfrm>
            <a:off x="1011240" y="2408400"/>
            <a:ext cx="71215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2"/>
          <p:cNvSpPr/>
          <p:nvPr/>
        </p:nvSpPr>
        <p:spPr>
          <a:xfrm>
            <a:off x="2124000" y="2276640"/>
            <a:ext cx="51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妹妹撅着两条短粗的小辫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紧紧地跟在泥裤子后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咬着唇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提着裙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轻轻地小心地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里却希望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摔这么痛快的一跤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0" t="0" r="0" b="13920"/>
          <a:stretch/>
        </p:blipFill>
        <p:spPr>
          <a:xfrm>
            <a:off x="2692440" y="996840"/>
            <a:ext cx="3760920" cy="110196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3"/>
          <p:cNvSpPr/>
          <p:nvPr/>
        </p:nvSpPr>
        <p:spPr>
          <a:xfrm>
            <a:off x="3149640" y="336060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6"/>
          <p:cNvSpPr/>
          <p:nvPr/>
        </p:nvSpPr>
        <p:spPr>
          <a:xfrm>
            <a:off x="2525760" y="390528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7"/>
          <p:cNvSpPr/>
          <p:nvPr/>
        </p:nvSpPr>
        <p:spPr>
          <a:xfrm>
            <a:off x="2165400" y="450864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8"/>
          <p:cNvSpPr/>
          <p:nvPr/>
        </p:nvSpPr>
        <p:spPr>
          <a:xfrm>
            <a:off x="4067280" y="5013360"/>
            <a:ext cx="36036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2158920" y="6022800"/>
            <a:ext cx="301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~~~~~~~~~~~~~~~~~~~~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3"/>
          <p:cNvSpPr/>
          <p:nvPr/>
        </p:nvSpPr>
        <p:spPr>
          <a:xfrm>
            <a:off x="684360" y="2079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描写小妹妹动作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“泥裤子”是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运用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修辞方法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小妹妹希望什么？用“　  ”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完选文，我知道小妹妹玩儿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"/>
          <p:cNvSpPr/>
          <p:nvPr/>
        </p:nvSpPr>
        <p:spPr>
          <a:xfrm>
            <a:off x="4173120" y="4106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~~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918960" y="272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小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6584760" y="2727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借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6123960" y="436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非常高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3"/>
          <p:cNvSpPr/>
          <p:nvPr/>
        </p:nvSpPr>
        <p:spPr>
          <a:xfrm>
            <a:off x="880920" y="2060640"/>
            <a:ext cx="757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想一想：雨后我们还可以做些什么呢？写下来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332000" y="25891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雨停了，真好！我们到郊外野餐，我们到河边钓鱼，我们在花丛中追蝴蝶，我们在凉风中歌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"/>
          <p:cNvSpPr/>
          <p:nvPr/>
        </p:nvSpPr>
        <p:spPr>
          <a:xfrm>
            <a:off x="900000" y="1962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仔细观察这幅图片，图片上的小姐姐在做什么？她是怎样做的？展开想象写一写，在写的时候，用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动作描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rcRect l="0" t="0" r="0" b="14658"/>
          <a:stretch/>
        </p:blipFill>
        <p:spPr>
          <a:xfrm>
            <a:off x="2660760" y="987480"/>
            <a:ext cx="3822480" cy="1146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3193920" y="3284640"/>
            <a:ext cx="30448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3"/>
          <p:cNvSpPr/>
          <p:nvPr/>
        </p:nvSpPr>
        <p:spPr>
          <a:xfrm>
            <a:off x="539640" y="965160"/>
            <a:ext cx="818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b10f4"/>
                </a:solidFill>
                <a:latin typeface="黑体"/>
                <a:ea typeface="黑体"/>
              </a:rPr>
              <a:t>优秀示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洗手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星期六，阳光明媚万里无云。小红独自来到家里附近的公园散步，她从口袋掏糖果的时候，不小心把自己喜爱的小手帕掉在地上，捡起来一看，呀，弄脏啦！她着急地往家里赶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回到家里小红先端来一盆水，接着把她的小手帕放在脸盆里，然后擦了一点肥皂，开始上搓搓，下搓搓，最后用清水冲洗干净。小红的小手帕又变得干净了，她感到十分开心！小红把手帕挂在阳台上晒太阳。这时一阵微风吹来，让小手帕在它的怀抱里荡秋千，好像在说：“嗨！小手帕你可真香啊！”小手帕自豪地说：“我的小主人小红刚刚给我洗过澡呢！我正舒服着呢！”小红似乎听见了它们的对话，自言自语地说：“我是一个爱清洁讲卫生的女孩子，我的手帕自然要时时刻刻都干干净净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12-09T15:10:18Z</dcterms:modified>
  <cp:revision>63</cp:revision>
  <dc:subject/>
  <dc:title>PowerPoint 演示文稿</dc:title>
</cp:coreProperties>
</file>